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5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8.png" ContentType="image/png"/>
  <Override PartName="/ppt/media/image45.png" ContentType="image/png"/>
  <Override PartName="/ppt/media/image30.wmf" ContentType="image/x-wmf"/>
  <Override PartName="/ppt/media/image34.png" ContentType="image/png"/>
  <Override PartName="/ppt/media/image35.jpeg" ContentType="image/jpeg"/>
  <Override PartName="/ppt/media/image46.png" ContentType="image/png"/>
  <Override PartName="/ppt/media/image19.jpeg" ContentType="image/jpeg"/>
  <Override PartName="/ppt/media/image43.png" ContentType="image/png"/>
  <Override PartName="/ppt/media/image47.jpeg" ContentType="image/jpeg"/>
  <Override PartName="/ppt/media/image49.png" ContentType="image/png"/>
  <Override PartName="/ppt/media/image12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38.jpeg" ContentType="image/jpeg"/>
  <Override PartName="/ppt/media/image31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50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075-4383-46D8-B4ED-3243F47F0C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 did we fi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9B06-BE7D-46DF-A3EC-36D83F0CB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/07/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7503-D23C-46A2-8A8F-EB67DCCE1A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/07/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/07/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348D-8CC2-4278-A3F7-2AE1453207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25E7-46D7-4717-8556-73EBD2CD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1B03-FD3C-49A9-915D-7C2B76A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F277-6C94-4586-9EE3-3748861CB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8190-4CD7-4F43-9C7D-8C62C9B3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B374-40A9-468F-BDF0-21B9A65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41AB-B196-44F4-B35B-53281EA7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9E609-A980-48F5-B944-FD47954A9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70A1-69DF-4C4D-9299-B36688EF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45618-1FED-4DD5-A732-C7A86842C1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79C8-C5FC-4C75-98EF-3EFAD86CB0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5C13F-6501-4079-A39B-56277250D3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7E28-54F6-48D3-8DFB-9338C8C511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3A3E9-C338-4681-BEA6-E3CD45EA8F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673B4-F1D9-41C5-9895-0A07E7D1E6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FCE93-17E9-4E01-A0A4-EFF7BA524A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C08F0-E616-431C-B868-000BC7C11A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06225-7601-4B64-B92E-E030DAF042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8037F-CCB6-4674-8849-690677627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055D-E7DF-406A-AA9B-0B4E72D8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87D5C-F76B-4751-BC22-EFCEAE7C6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A1C2-382E-4B14-85CE-D00A88DB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AE34-A512-4477-B2B7-8AECC2C6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082C-8C77-4EF7-877A-CD8C26D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A031-8444-4DF9-A656-C7388D7F6873}" type="datetime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6E0E-A885-42D5-B3D1-1D135C73902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3 CuadroTexto"/>
          <p:cNvSpPr/>
          <p:nvPr/>
        </p:nvSpPr>
        <p:spPr>
          <a:xfrm>
            <a:off x="254160" y="6524640"/>
            <a:ext cx="86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f3340"/>
                </a:solidFill>
                <a:latin typeface="Calibri"/>
              </a:rPr>
              <a:t>A neW concept of pubLic administration based on citizen co-created mobile urba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18 Imagen" descr=""/>
          <p:cNvPicPr/>
          <p:nvPr/>
        </p:nvPicPr>
        <p:blipFill>
          <a:blip r:embed="rId2"/>
          <a:stretch/>
        </p:blipFill>
        <p:spPr>
          <a:xfrm>
            <a:off x="179280" y="30312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42" name="20 Conector recto"/>
          <p:cNvSpPr/>
          <p:nvPr/>
        </p:nvSpPr>
        <p:spPr>
          <a:xfrm>
            <a:off x="285840" y="6504120"/>
            <a:ext cx="8607240" cy="0"/>
          </a:xfrm>
          <a:prstGeom prst="line">
            <a:avLst/>
          </a:prstGeom>
          <a:ln cap="rnd" w="28440">
            <a:solidFill>
              <a:srgbClr val="ef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9 Grupo"/>
          <p:cNvGrpSpPr/>
          <p:nvPr/>
        </p:nvGrpSpPr>
        <p:grpSpPr>
          <a:xfrm>
            <a:off x="1116000" y="4554360"/>
            <a:ext cx="6918480" cy="1864080"/>
            <a:chOff x="1116000" y="4554360"/>
            <a:chExt cx="6918480" cy="1864080"/>
          </a:xfrm>
        </p:grpSpPr>
        <p:pic>
          <p:nvPicPr>
            <p:cNvPr id="44" name="4 Imagen" descr=""/>
            <p:cNvPicPr/>
            <p:nvPr/>
          </p:nvPicPr>
          <p:blipFill>
            <a:blip r:embed="rId3"/>
            <a:stretch/>
          </p:blipFill>
          <p:spPr>
            <a:xfrm>
              <a:off x="1116000" y="4580280"/>
              <a:ext cx="18950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5 Imagen" descr=""/>
            <p:cNvPicPr/>
            <p:nvPr/>
          </p:nvPicPr>
          <p:blipFill>
            <a:blip r:embed="rId4"/>
            <a:stretch/>
          </p:blipFill>
          <p:spPr>
            <a:xfrm>
              <a:off x="3204000" y="4580280"/>
              <a:ext cx="15807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6 Imagen" descr=""/>
            <p:cNvPicPr/>
            <p:nvPr/>
          </p:nvPicPr>
          <p:blipFill>
            <a:blip r:embed="rId5"/>
            <a:stretch/>
          </p:blipFill>
          <p:spPr>
            <a:xfrm>
              <a:off x="4935240" y="4554360"/>
              <a:ext cx="107172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7 Imagen" descr=""/>
            <p:cNvPicPr/>
            <p:nvPr/>
          </p:nvPicPr>
          <p:blipFill>
            <a:blip r:embed="rId6"/>
            <a:stretch/>
          </p:blipFill>
          <p:spPr>
            <a:xfrm>
              <a:off x="6087240" y="4638960"/>
              <a:ext cx="194724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8 Imagen" descr=""/>
            <p:cNvPicPr/>
            <p:nvPr/>
          </p:nvPicPr>
          <p:blipFill>
            <a:blip r:embed="rId7"/>
            <a:stretch/>
          </p:blipFill>
          <p:spPr>
            <a:xfrm>
              <a:off x="1263600" y="5085720"/>
              <a:ext cx="799920" cy="6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10 Imagen" descr=""/>
            <p:cNvPicPr/>
            <p:nvPr/>
          </p:nvPicPr>
          <p:blipFill>
            <a:blip r:embed="rId8"/>
            <a:stretch/>
          </p:blipFill>
          <p:spPr>
            <a:xfrm>
              <a:off x="2248560" y="5127840"/>
              <a:ext cx="160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12 Imagen" descr=""/>
            <p:cNvPicPr/>
            <p:nvPr/>
          </p:nvPicPr>
          <p:blipFill>
            <a:blip r:embed="rId9"/>
            <a:stretch/>
          </p:blipFill>
          <p:spPr>
            <a:xfrm>
              <a:off x="3994560" y="5189400"/>
              <a:ext cx="1804680" cy="4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13 Imagen" descr=""/>
            <p:cNvPicPr/>
            <p:nvPr/>
          </p:nvPicPr>
          <p:blipFill>
            <a:blip r:embed="rId10"/>
            <a:stretch/>
          </p:blipFill>
          <p:spPr>
            <a:xfrm>
              <a:off x="5943240" y="5218200"/>
              <a:ext cx="16124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14 Imagen" descr=""/>
            <p:cNvPicPr/>
            <p:nvPr/>
          </p:nvPicPr>
          <p:blipFill>
            <a:blip r:embed="rId11"/>
            <a:stretch/>
          </p:blipFill>
          <p:spPr>
            <a:xfrm>
              <a:off x="1904760" y="5733720"/>
              <a:ext cx="110628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16 Imagen" descr=""/>
            <p:cNvPicPr/>
            <p:nvPr/>
          </p:nvPicPr>
          <p:blipFill>
            <a:blip r:embed="rId12"/>
            <a:stretch/>
          </p:blipFill>
          <p:spPr>
            <a:xfrm>
              <a:off x="3135240" y="5805720"/>
              <a:ext cx="1469520" cy="5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19 Imagen" descr=""/>
            <p:cNvPicPr/>
            <p:nvPr/>
          </p:nvPicPr>
          <p:blipFill>
            <a:blip r:embed="rId13"/>
            <a:stretch/>
          </p:blipFill>
          <p:spPr>
            <a:xfrm>
              <a:off x="4863240" y="5604120"/>
              <a:ext cx="61272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21 Imagen" descr=""/>
            <p:cNvPicPr/>
            <p:nvPr/>
          </p:nvPicPr>
          <p:blipFill>
            <a:blip r:embed="rId14"/>
            <a:stretch/>
          </p:blipFill>
          <p:spPr>
            <a:xfrm>
              <a:off x="5777640" y="5847840"/>
              <a:ext cx="1540440" cy="49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22 Conector recto"/>
          <p:cNvSpPr/>
          <p:nvPr/>
        </p:nvSpPr>
        <p:spPr>
          <a:xfrm>
            <a:off x="285840" y="4365720"/>
            <a:ext cx="8638920" cy="0"/>
          </a:xfrm>
          <a:prstGeom prst="line">
            <a:avLst/>
          </a:prstGeom>
          <a:ln cap="rnd" w="28440">
            <a:solidFill>
              <a:srgbClr val="ef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8317080" y="6448320"/>
            <a:ext cx="57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f334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ef3340"/>
                </a:solidFill>
                <a:latin typeface="Calibri"/>
              </a:rPr>
              <a:t>Page </a:t>
            </a:r>
            <a:fld id="{DA5538B1-1A5C-4C68-8981-D45DDE8ED7D5}" type="slidenum">
              <a:rPr b="0" lang="es-ES" sz="1200" spc="-1" strike="noStrike">
                <a:solidFill>
                  <a:srgbClr val="ef33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1 CuadroTexto"/>
          <p:cNvSpPr/>
          <p:nvPr/>
        </p:nvSpPr>
        <p:spPr>
          <a:xfrm>
            <a:off x="1547640" y="652464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f3340"/>
                </a:solidFill>
                <a:latin typeface="Calibri"/>
              </a:rPr>
              <a:t>WeLive: A neW concept of pubLic administration based on citizen co-created mobile urba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8 Conector recto"/>
          <p:cNvSpPr/>
          <p:nvPr/>
        </p:nvSpPr>
        <p:spPr>
          <a:xfrm>
            <a:off x="277920" y="1265400"/>
            <a:ext cx="8638920" cy="0"/>
          </a:xfrm>
          <a:prstGeom prst="line">
            <a:avLst/>
          </a:prstGeom>
          <a:ln cap="rnd" w="28440">
            <a:solidFill>
              <a:srgbClr val="ef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3 Imagen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125360" cy="1125360"/>
          </a:xfrm>
          <a:prstGeom prst="rect">
            <a:avLst/>
          </a:prstGeom>
          <a:ln w="0">
            <a:noFill/>
          </a:ln>
        </p:spPr>
      </p:pic>
      <p:sp>
        <p:nvSpPr>
          <p:cNvPr id="99" name="13 Conector recto"/>
          <p:cNvSpPr/>
          <p:nvPr/>
        </p:nvSpPr>
        <p:spPr>
          <a:xfrm>
            <a:off x="277920" y="6381720"/>
            <a:ext cx="8615160" cy="0"/>
          </a:xfrm>
          <a:prstGeom prst="line">
            <a:avLst/>
          </a:prstGeom>
          <a:ln cap="rnd" w="28440">
            <a:solidFill>
              <a:srgbClr val="ef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324000" y="6447960"/>
            <a:ext cx="101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f33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A5E-1F38-43B4-AA00-8D3DED968BFF}" type="datetime">
              <a:rPr b="0" lang="es-ES" sz="1200" spc="-1" strike="noStrike">
                <a:solidFill>
                  <a:srgbClr val="ef334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7 CuadroTexto"/>
          <p:cNvSpPr/>
          <p:nvPr/>
        </p:nvSpPr>
        <p:spPr>
          <a:xfrm>
            <a:off x="254160" y="6524640"/>
            <a:ext cx="86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f3340"/>
                </a:solidFill>
                <a:latin typeface="Calibri"/>
              </a:rPr>
              <a:t>A neW concept of pubLic administration based on citizen co-created mobile urba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8 Imagen" descr=""/>
          <p:cNvPicPr/>
          <p:nvPr/>
        </p:nvPicPr>
        <p:blipFill>
          <a:blip r:embed="rId2"/>
          <a:stretch/>
        </p:blipFill>
        <p:spPr>
          <a:xfrm>
            <a:off x="179280" y="303120"/>
            <a:ext cx="3961080" cy="3961080"/>
          </a:xfrm>
          <a:prstGeom prst="rect">
            <a:avLst/>
          </a:prstGeom>
          <a:ln w="0">
            <a:noFill/>
          </a:ln>
        </p:spPr>
      </p:pic>
      <p:sp>
        <p:nvSpPr>
          <p:cNvPr id="141" name="9 Conector recto"/>
          <p:cNvSpPr/>
          <p:nvPr/>
        </p:nvSpPr>
        <p:spPr>
          <a:xfrm>
            <a:off x="285840" y="6504120"/>
            <a:ext cx="8607240" cy="0"/>
          </a:xfrm>
          <a:prstGeom prst="line">
            <a:avLst/>
          </a:prstGeom>
          <a:ln cap="rnd" w="28440">
            <a:solidFill>
              <a:srgbClr val="ef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10 Grupo"/>
          <p:cNvGrpSpPr/>
          <p:nvPr/>
        </p:nvGrpSpPr>
        <p:grpSpPr>
          <a:xfrm>
            <a:off x="1116000" y="4554360"/>
            <a:ext cx="6918480" cy="1864080"/>
            <a:chOff x="1116000" y="4554360"/>
            <a:chExt cx="6918480" cy="1864080"/>
          </a:xfrm>
        </p:grpSpPr>
        <p:pic>
          <p:nvPicPr>
            <p:cNvPr id="143" name="11 Imagen" descr=""/>
            <p:cNvPicPr/>
            <p:nvPr/>
          </p:nvPicPr>
          <p:blipFill>
            <a:blip r:embed="rId3"/>
            <a:stretch/>
          </p:blipFill>
          <p:spPr>
            <a:xfrm>
              <a:off x="1116000" y="4580280"/>
              <a:ext cx="18950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12 Imagen" descr=""/>
            <p:cNvPicPr/>
            <p:nvPr/>
          </p:nvPicPr>
          <p:blipFill>
            <a:blip r:embed="rId4"/>
            <a:stretch/>
          </p:blipFill>
          <p:spPr>
            <a:xfrm>
              <a:off x="3204000" y="4580280"/>
              <a:ext cx="15807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13 Imagen" descr=""/>
            <p:cNvPicPr/>
            <p:nvPr/>
          </p:nvPicPr>
          <p:blipFill>
            <a:blip r:embed="rId5"/>
            <a:stretch/>
          </p:blipFill>
          <p:spPr>
            <a:xfrm>
              <a:off x="4935240" y="4554360"/>
              <a:ext cx="107172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14 Imagen" descr=""/>
            <p:cNvPicPr/>
            <p:nvPr/>
          </p:nvPicPr>
          <p:blipFill>
            <a:blip r:embed="rId6"/>
            <a:stretch/>
          </p:blipFill>
          <p:spPr>
            <a:xfrm>
              <a:off x="6087240" y="4638960"/>
              <a:ext cx="194724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5 Imagen" descr=""/>
            <p:cNvPicPr/>
            <p:nvPr/>
          </p:nvPicPr>
          <p:blipFill>
            <a:blip r:embed="rId7"/>
            <a:stretch/>
          </p:blipFill>
          <p:spPr>
            <a:xfrm>
              <a:off x="1263600" y="5085720"/>
              <a:ext cx="799920" cy="6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16 Imagen" descr=""/>
            <p:cNvPicPr/>
            <p:nvPr/>
          </p:nvPicPr>
          <p:blipFill>
            <a:blip r:embed="rId8"/>
            <a:stretch/>
          </p:blipFill>
          <p:spPr>
            <a:xfrm>
              <a:off x="2248560" y="5127840"/>
              <a:ext cx="160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17 Imagen" descr=""/>
            <p:cNvPicPr/>
            <p:nvPr/>
          </p:nvPicPr>
          <p:blipFill>
            <a:blip r:embed="rId9"/>
            <a:stretch/>
          </p:blipFill>
          <p:spPr>
            <a:xfrm>
              <a:off x="3994560" y="5189400"/>
              <a:ext cx="1804680" cy="4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18 Imagen" descr=""/>
            <p:cNvPicPr/>
            <p:nvPr/>
          </p:nvPicPr>
          <p:blipFill>
            <a:blip r:embed="rId10"/>
            <a:stretch/>
          </p:blipFill>
          <p:spPr>
            <a:xfrm>
              <a:off x="5943240" y="5218200"/>
              <a:ext cx="16124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19 Imagen" descr=""/>
            <p:cNvPicPr/>
            <p:nvPr/>
          </p:nvPicPr>
          <p:blipFill>
            <a:blip r:embed="rId11"/>
            <a:stretch/>
          </p:blipFill>
          <p:spPr>
            <a:xfrm>
              <a:off x="1904760" y="5733720"/>
              <a:ext cx="110628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20 Imagen" descr=""/>
            <p:cNvPicPr/>
            <p:nvPr/>
          </p:nvPicPr>
          <p:blipFill>
            <a:blip r:embed="rId12"/>
            <a:stretch/>
          </p:blipFill>
          <p:spPr>
            <a:xfrm>
              <a:off x="3135240" y="5805720"/>
              <a:ext cx="1469520" cy="5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21 Imagen" descr=""/>
            <p:cNvPicPr/>
            <p:nvPr/>
          </p:nvPicPr>
          <p:blipFill>
            <a:blip r:embed="rId13"/>
            <a:stretch/>
          </p:blipFill>
          <p:spPr>
            <a:xfrm>
              <a:off x="4863240" y="5604120"/>
              <a:ext cx="61272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22 Imagen" descr=""/>
            <p:cNvPicPr/>
            <p:nvPr/>
          </p:nvPicPr>
          <p:blipFill>
            <a:blip r:embed="rId14"/>
            <a:stretch/>
          </p:blipFill>
          <p:spPr>
            <a:xfrm>
              <a:off x="5777640" y="5847840"/>
              <a:ext cx="1540440" cy="49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23 Conector recto"/>
          <p:cNvSpPr/>
          <p:nvPr/>
        </p:nvSpPr>
        <p:spPr>
          <a:xfrm>
            <a:off x="285840" y="4365720"/>
            <a:ext cx="8638920" cy="0"/>
          </a:xfrm>
          <a:prstGeom prst="line">
            <a:avLst/>
          </a:prstGeom>
          <a:ln cap="rnd" w="28440">
            <a:solidFill>
              <a:srgbClr val="ef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 CuadroTexto"/>
          <p:cNvSpPr/>
          <p:nvPr/>
        </p:nvSpPr>
        <p:spPr>
          <a:xfrm>
            <a:off x="3994200" y="1125360"/>
            <a:ext cx="4465440" cy="25628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ef334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3340"/>
                </a:solidFill>
                <a:latin typeface="Calibri"/>
              </a:rPr>
              <a:t>Thanks for your attention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A842-AEB4-4620-B8A3-1A2212606D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1 Título"/>
          <p:cNvGrpSpPr/>
          <p:nvPr/>
        </p:nvGrpSpPr>
        <p:grpSpPr>
          <a:xfrm>
            <a:off x="2511360" y="1163520"/>
            <a:ext cx="6351480" cy="2536920"/>
            <a:chOff x="2511360" y="1163520"/>
            <a:chExt cx="6351480" cy="2536920"/>
          </a:xfrm>
        </p:grpSpPr>
        <p:pic>
          <p:nvPicPr>
            <p:cNvPr id="242" name="1 Título" descr=""/>
            <p:cNvPicPr/>
            <p:nvPr/>
          </p:nvPicPr>
          <p:blipFill>
            <a:blip r:embed="rId1"/>
            <a:stretch/>
          </p:blipFill>
          <p:spPr>
            <a:xfrm>
              <a:off x="2511360" y="1163520"/>
              <a:ext cx="635148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590920" y="1278000"/>
              <a:ext cx="612144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3600" spc="-1" strike="noStrike">
                  <a:solidFill>
                    <a:srgbClr val="ef3340"/>
                  </a:solidFill>
                  <a:latin typeface="Calibri"/>
                </a:rPr>
                <a:t>Prezentacija </a:t>
              </a:r>
              <a:r>
                <a:rPr b="0" lang="es-ES" sz="3600" spc="-1" strike="noStrike">
                  <a:solidFill>
                    <a:srgbClr val="ef3340"/>
                  </a:solidFill>
                  <a:latin typeface="Calibri"/>
                </a:rPr>
                <a:t>WeLive </a:t>
              </a:r>
              <a:r>
                <a:rPr b="0" lang="sr-Latn-RS" sz="3600" spc="-1" strike="noStrike">
                  <a:solidFill>
                    <a:srgbClr val="ef3340"/>
                  </a:solidFill>
                  <a:latin typeface="Calibri"/>
                </a:rPr>
                <a:t>projekta</a:t>
              </a:r>
              <a:br>
                <a:rPr sz="3600"/>
              </a:br>
              <a:br>
                <a:rPr sz="3600"/>
              </a:br>
              <a:r>
                <a:rPr b="0" lang="sr-Latn-RS" sz="3600" spc="-1" strike="noStrike">
                  <a:solidFill>
                    <a:srgbClr val="ef3340"/>
                  </a:solidFill>
                  <a:latin typeface="Calibri"/>
                </a:rPr>
                <a:t>Grad Novi S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3 Marcador de fecha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7 Rectángulo redondeado"/>
          <p:cNvSpPr/>
          <p:nvPr/>
        </p:nvSpPr>
        <p:spPr>
          <a:xfrm>
            <a:off x="0" y="4076640"/>
            <a:ext cx="914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sr-Latn-RS" sz="4000" spc="-1" strike="noStrike">
                <a:solidFill>
                  <a:srgbClr val="ffffff"/>
                </a:solidFill>
                <a:latin typeface="Calibri"/>
              </a:rPr>
              <a:t>Pilot Projeka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sr-Latn-RS" sz="4000" spc="-1" strike="noStrike">
                <a:solidFill>
                  <a:srgbClr val="ffffff"/>
                </a:solidFill>
                <a:latin typeface="Calibri"/>
              </a:rPr>
              <a:t>Novi S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6 Rectángulo" descr=""/>
          <p:cNvPicPr/>
          <p:nvPr/>
        </p:nvPicPr>
        <p:blipFill>
          <a:blip r:embed="rId1"/>
          <a:stretch/>
        </p:blipFill>
        <p:spPr>
          <a:xfrm>
            <a:off x="341280" y="3902040"/>
            <a:ext cx="1298520" cy="1541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Dejan\Desktop\ns_about.png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Grad Novi Sad i </a:t>
            </a:r>
            <a:r>
              <a:rPr b="1" i="1" lang="en-US" sz="2400" spc="-1" strike="noStrike">
                <a:solidFill>
                  <a:srgbClr val="69b3e7"/>
                </a:solidFill>
                <a:latin typeface="Calibri"/>
              </a:rPr>
              <a:t>WeLive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Grad Novi Sad putem WeLive projek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želi da podstakne razvijanje najboljih idejnih rešenja u mobilne aplikacije koje će poboljšati kvalitet života ljudi u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Novom Sadu, kao 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ovima širom Srbij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replikacija i održivost projekta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C:\Users\Korisnik\Desktop\slike grada sa aut\panorama sat i grad.jpg"/>
          <p:cNvPicPr/>
          <p:nvPr/>
        </p:nvPicPr>
        <p:blipFill>
          <a:blip r:embed="rId1"/>
          <a:stretch/>
        </p:blipFill>
        <p:spPr>
          <a:xfrm>
            <a:off x="250920" y="3789360"/>
            <a:ext cx="87692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Konsultacije sa građanima, kompanijama i predstavnicima javne administracij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314360"/>
            <a:ext cx="8820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ke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dioni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Razgovor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Prezentacij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324000" y="6492960"/>
            <a:ext cx="101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Sonja\Desktop\CLIPS 2015\Promo CLIPS 2015\Promo 09.07.15. Smart City\WP_20150709_015.jpg"/>
          <p:cNvPicPr/>
          <p:nvPr/>
        </p:nvPicPr>
        <p:blipFill>
          <a:blip r:embed="rId1"/>
          <a:stretch/>
        </p:blipFill>
        <p:spPr>
          <a:xfrm>
            <a:off x="3505320" y="2362320"/>
            <a:ext cx="4267080" cy="1828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http://www.novisad.rs/sites/default/files/imagecache/462xXXX/images/strategija_odrzivog_razvoja.jpg"/>
          <p:cNvPicPr/>
          <p:nvPr/>
        </p:nvPicPr>
        <p:blipFill>
          <a:blip r:embed="rId2"/>
          <a:stretch/>
        </p:blipFill>
        <p:spPr>
          <a:xfrm>
            <a:off x="3429000" y="4419720"/>
            <a:ext cx="43434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400" spc="-1" strike="noStrike">
                <a:solidFill>
                  <a:srgbClr val="69b3e7"/>
                </a:solidFill>
                <a:latin typeface="Calibri"/>
              </a:rPr>
              <a:t>Anketa Novi Sa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ketirani su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đani,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ompanije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na administracija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lj ankete je bio prikupljanje informacija o potrebama vezanim za buduće digitalne uslug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kupno je anketirano 146 ispitanik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324000" y="6492960"/>
            <a:ext cx="101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69b3e7"/>
                </a:solidFill>
                <a:latin typeface="Calibri"/>
              </a:rPr>
              <a:t>Anketa Novi Sad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pitanici su iskazali zainteresovanost za sve sektore javnih usluga, a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osebno z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ledeće javne uslug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Bezbednost,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odične i socijalne usluge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Saobraća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ao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Kultura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,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izam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zovanje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dravlje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i životna sredi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sije i oporezivanj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324000" y="6492960"/>
            <a:ext cx="101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9b3e7"/>
                </a:solidFill>
                <a:latin typeface="Calibri"/>
              </a:rPr>
              <a:t>Iskazali su sledeće potrebe za digitalnim uslugam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ije o cenama zemljišta po zonama, komunalna opremljenost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lasnička struktura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ije o zdravstvenim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lugama,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zivanje medicinskih usluga i dobijanje rezultata putem telefona i mejla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ije o kulturnim manifestacijama u Gradu 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lturnim znamenitostima na mapama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9b3e7"/>
                </a:solidFill>
                <a:latin typeface="Calibri"/>
              </a:rPr>
              <a:t>Iskazali su sledeće potrebe za digitalnim uslugam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formacije o građevinskim dozvolama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formacije o porezima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formacije o radovima na putevima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formacije o firmama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formacije o sportskim i drugim vestima i događajima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žurne mape ulica Grad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iStock_000031785838_Medium-1260x840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41400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Hајdе dа zа pоčеtаk vidimо štа su оtvоrеni pоdаci…</a:t>
            </a:r>
            <a:r>
              <a:rPr b="1" i="1" lang="en-US" sz="2400" spc="-1" strike="noStrike">
                <a:solidFill>
                  <a:srgbClr val="69b3e7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5CD1-83B8-4438-BA6D-6E99E7A15BC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08000" y="2073240"/>
            <a:ext cx="638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  <a:ea typeface="Arial"/>
              </a:rPr>
              <a:t>S</a:t>
            </a:r>
            <a:r>
              <a:rPr b="0" lang="vi-VN" sz="1800" spc="-1" strike="noStrike">
                <a:solidFill>
                  <a:srgbClr val="ffffff"/>
                </a:solidFill>
                <a:latin typeface="Calibri"/>
                <a:ea typeface="Arial"/>
              </a:rPr>
              <a:t>vаkо licе mоžе slоbоdnо dа ih kоristi i pоnоvо оbјаvlјuје, bеz оgrаničеnjа оd strаnе аutоrа ili drugih kоntrоlnih mеhаnizаmа. Pојаm “оtvоrеni pоdаci” primеnjuје sе оd 2008. gоdinе </a:t>
            </a:r>
            <a:r>
              <a:rPr b="0" lang="sr-Latn-RS" sz="1800" spc="-1" strike="noStrike">
                <a:solidFill>
                  <a:srgbClr val="ffffff"/>
                </a:solidFill>
                <a:latin typeface="Calibri"/>
                <a:ea typeface="Arial"/>
              </a:rPr>
              <a:t>.....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http://data.poverenik.rs/otvoreni-podaci </a:t>
            </a:r>
            <a:r>
              <a:rPr b="0" lang="sr-Latn-R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277920" y="3911760"/>
            <a:ext cx="604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0" lang="vi-VN" sz="1800" spc="-1" strike="noStrike">
                <a:solidFill>
                  <a:srgbClr val="ffffff"/>
                </a:solidFill>
                <a:latin typeface="Calibri"/>
                <a:ea typeface="Arial"/>
              </a:rPr>
              <a:t>Zbоg čеgа је znаčајnо оtvаrаti pоdаtkе?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Calibri"/>
                <a:ea typeface="Arial"/>
              </a:rPr>
              <a:t>Оdgоvоr sе kriје u оgrоmnоm prаktičnоm, еkоnоmskоm i krеаtivnоm pоtеnciјаlu оvih infоrmаciј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6525720" y="184932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ffff"/>
                </a:solidFill>
                <a:latin typeface="Calibri"/>
                <a:ea typeface="Arial"/>
              </a:rPr>
              <a:t>nafta</a:t>
            </a:r>
            <a:r>
              <a:rPr b="1" lang="vi-VN" sz="3200" spc="-1" strike="noStrike">
                <a:solidFill>
                  <a:srgbClr val="ffffff"/>
                </a:solidFill>
                <a:latin typeface="Calibri"/>
                <a:ea typeface="Arial"/>
              </a:rPr>
              <a:t> 21. vеk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496360" cy="34401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Šta to u prevodu znači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Koristiće se postojeći  podaci  iz navedenih oblasti, koji su dostupni u jednom od formata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xml files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on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 files                                        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otvoreni podac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v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fil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df 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fil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koje su institucije „otvorile“, a relevantne su za lokalni nivo (rešavanje problema u gradu) ili su u formatu koji je se može konvertovati u gore navedene. Informacije o otvorenim podacima u Republici Srbiji dostupne na http://data.poverenik.rs/sl/dataset/katalog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qual 4"/>
          <p:cNvSpPr/>
          <p:nvPr/>
        </p:nvSpPr>
        <p:spPr>
          <a:xfrm>
            <a:off x="2411280" y="20574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99001"/>
                </a:moveTo>
                <a:lnTo>
                  <a:pt x="793196" y="199001"/>
                </a:lnTo>
                <a:lnTo>
                  <a:pt x="793196" y="414068"/>
                </a:lnTo>
                <a:lnTo>
                  <a:pt x="121204" y="414068"/>
                </a:lnTo>
                <a:lnTo>
                  <a:pt x="121204" y="199001"/>
                </a:lnTo>
                <a:close/>
                <a:moveTo>
                  <a:pt x="121204" y="500332"/>
                </a:moveTo>
                <a:lnTo>
                  <a:pt x="793196" y="500332"/>
                </a:lnTo>
                <a:lnTo>
                  <a:pt x="793196" y="715399"/>
                </a:lnTo>
                <a:lnTo>
                  <a:pt x="121204" y="715399"/>
                </a:lnTo>
                <a:lnTo>
                  <a:pt x="121204" y="500332"/>
                </a:lnTo>
                <a:close/>
              </a:path>
            </a:pathLst>
          </a:custGeom>
          <a:solidFill>
            <a:srgbClr val="c3ddff"/>
          </a:solidFill>
          <a:ln w="25560">
            <a:solidFill>
              <a:srgbClr val="c3d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200" spc="-1" strike="noStrike">
                <a:solidFill>
                  <a:srgbClr val="69b3e7"/>
                </a:solidFill>
                <a:latin typeface="Calibri"/>
              </a:rPr>
              <a:t>Otvoreni podaci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Gradsk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 uprav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 za zaštitu životne sredine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nudi sledeće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otvoren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 poda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tke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1.       Kvalitet vazduh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2.       Kvalitet površinskih vod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3.       Buka u životnoj sred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4.       Aeropole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5.       Registar izvora zagađivanj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6.       Trenutni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UV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 indeks i mnogi drugi podac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ef3340"/>
                </a:solidFill>
                <a:latin typeface="Calibri"/>
              </a:rPr>
              <a:t>WeLiv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Novi koncept javne uprave zasnovane na mobilnim gradskim servisima u čijoj izradi učestvuju građan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Finansiran od strane Evropske komisije - Program HORIZON 2020 – otvorena uprava sa informacionim i komunikacionim tehnologijam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Trajanje projekta 3 god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Video o projektu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http://www.novisad.rs/welive-video-srpskog-pilot-projek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69b3e7"/>
                </a:solidFill>
                <a:latin typeface="Calibri"/>
              </a:rPr>
              <a:t>Aplikacij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ledeće aplikacije su razvijene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elocation Advisor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(Savetnik za preseljenj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afe Trip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(Siguran gradski izlet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ublic Procurement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 (Praćenje Javnih nabavk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D:\Users\106225\Documents\Trabajo\Proyectos\039279 - WeLive\Technical Work\WP3 - Integration of the WeLive Framework\Phase I Services\Serbia\Relocation advisor(1).png"/>
          <p:cNvPicPr/>
          <p:nvPr/>
        </p:nvPicPr>
        <p:blipFill>
          <a:blip r:embed="rId1"/>
          <a:stretch/>
        </p:blipFill>
        <p:spPr>
          <a:xfrm>
            <a:off x="7580160" y="2338560"/>
            <a:ext cx="103032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Users\106225\Documents\Trabajo\Proyectos\039279 - WeLive\Technical Work\WP3 - Integration of the WeLive Framework\Phase I Services\Serbia\Safe Trip.png"/>
          <p:cNvPicPr/>
          <p:nvPr/>
        </p:nvPicPr>
        <p:blipFill>
          <a:blip r:embed="rId2"/>
          <a:stretch/>
        </p:blipFill>
        <p:spPr>
          <a:xfrm>
            <a:off x="5765760" y="348156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D:\Users\106225\Documents\Trabajo\Proyectos\039279 - WeLive\Technical Work\WP3 - Integration of the WeLive Framework\Phase I Services\Serbia\javne_nabavke.png"/>
          <p:cNvPicPr/>
          <p:nvPr/>
        </p:nvPicPr>
        <p:blipFill>
          <a:blip r:embed="rId3"/>
          <a:stretch/>
        </p:blipFill>
        <p:spPr>
          <a:xfrm>
            <a:off x="8075520" y="4395960"/>
            <a:ext cx="45900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1 Título"/>
          <p:cNvGrpSpPr/>
          <p:nvPr/>
        </p:nvGrpSpPr>
        <p:grpSpPr>
          <a:xfrm>
            <a:off x="2457360" y="244440"/>
            <a:ext cx="6643800" cy="3352680"/>
            <a:chOff x="2457360" y="244440"/>
            <a:chExt cx="6643800" cy="3352680"/>
          </a:xfrm>
        </p:grpSpPr>
        <p:pic>
          <p:nvPicPr>
            <p:cNvPr id="356" name="1 Título" descr=""/>
            <p:cNvPicPr/>
            <p:nvPr/>
          </p:nvPicPr>
          <p:blipFill>
            <a:blip r:embed="rId1"/>
            <a:stretch/>
          </p:blipFill>
          <p:spPr>
            <a:xfrm>
              <a:off x="2457360" y="244440"/>
              <a:ext cx="66438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627280" y="360360"/>
              <a:ext cx="6121440" cy="30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3600" spc="-1" strike="noStrike">
                  <a:solidFill>
                    <a:srgbClr val="ef3340"/>
                  </a:solidFill>
                  <a:latin typeface="Calibri"/>
                </a:rPr>
                <a:t>- Konkurs - </a:t>
              </a:r>
              <a:r>
                <a:rPr b="0" lang="es-ES" sz="3600" spc="-1" strike="noStrike">
                  <a:solidFill>
                    <a:srgbClr val="ef3340"/>
                  </a:solidFill>
                  <a:latin typeface="Calibri"/>
                </a:rPr>
                <a:t> </a:t>
              </a:r>
              <a:br>
                <a:rPr sz="3600"/>
              </a:br>
              <a:r>
                <a:rPr b="0" lang="sr-Latn-RS" sz="3600" spc="-1" strike="noStrike">
                  <a:solidFill>
                    <a:srgbClr val="ef3340"/>
                  </a:solidFill>
                  <a:latin typeface="Calibri"/>
                </a:rPr>
                <a:t>Takmičenje za izbor najboljih ideja za pametnije i efikasnije javne servise Grada Novog Sada – Pilot faza 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b3e7"/>
                </a:solidFill>
                <a:latin typeface="Calibri"/>
              </a:rPr>
              <a:t>Tema konkurs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084720" y="4149720"/>
            <a:ext cx="2681280" cy="2133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bulb.png"/>
          <p:cNvPicPr/>
          <p:nvPr/>
        </p:nvPicPr>
        <p:blipFill>
          <a:blip r:embed="rId2"/>
          <a:stretch/>
        </p:blipFill>
        <p:spPr>
          <a:xfrm>
            <a:off x="6761160" y="3213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data-database-icon.png"/>
          <p:cNvPicPr/>
          <p:nvPr/>
        </p:nvPicPr>
        <p:blipFill>
          <a:blip r:embed="rId3"/>
          <a:stretch/>
        </p:blipFill>
        <p:spPr>
          <a:xfrm>
            <a:off x="6875640" y="24638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7"/>
          <p:cNvSpPr/>
          <p:nvPr/>
        </p:nvSpPr>
        <p:spPr>
          <a:xfrm>
            <a:off x="7677360" y="2298600"/>
            <a:ext cx="5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4560840" y="4922640"/>
            <a:ext cx="2251800" cy="1382760"/>
            <a:chOff x="4560840" y="4922640"/>
            <a:chExt cx="2251800" cy="1382760"/>
          </a:xfrm>
        </p:grpSpPr>
        <p:pic>
          <p:nvPicPr>
            <p:cNvPr id="365" name="Picture 9" descr="hammer.jpg"/>
            <p:cNvPicPr/>
            <p:nvPr/>
          </p:nvPicPr>
          <p:blipFill>
            <a:blip r:embed="rId4"/>
            <a:stretch/>
          </p:blipFill>
          <p:spPr>
            <a:xfrm>
              <a:off x="4560840" y="54673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ight Arrow 10"/>
            <p:cNvSpPr/>
            <p:nvPr/>
          </p:nvSpPr>
          <p:spPr>
            <a:xfrm rot="9418200">
              <a:off x="5069880" y="5229000"/>
              <a:ext cx="1690920" cy="609480"/>
            </a:xfrm>
            <a:prstGeom prst="rightArrow">
              <a:avLst>
                <a:gd name="adj1" fmla="val 50000"/>
                <a:gd name="adj2" fmla="val 5001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1"/>
          <p:cNvSpPr/>
          <p:nvPr/>
        </p:nvSpPr>
        <p:spPr>
          <a:xfrm>
            <a:off x="7678440" y="367020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24000" y="1335600"/>
            <a:ext cx="3960720" cy="496116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Učesnici na konkursu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su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 bi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li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 angažovani na osmišljavanju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ideja za izradu aplikacija za 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mobilne uređaje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koristeći otvorene podatke</a:t>
            </a:r>
            <a:r>
              <a:rPr b="1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kako bi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poboljša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l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 uslove života u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Novom Sadu,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kao i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usluge i servise gradskih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  <a:ea typeface="Arial"/>
              </a:rPr>
              <a:t>uprava, u pogled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Ekolog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Turiz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K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Saobraća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deje koje pokrivaju ove oblasti su bi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zmotrene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sa stanoviš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valite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inventivn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koliko poseduju potencijal za ozbiljan finalni proizv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eje koje istupaju iz ov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blasti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is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razm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atran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4572000" y="1817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Ideja je morala biti originalna, tehnički izvodljiva i pristupač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resource.png"/>
          <p:cNvPicPr/>
          <p:nvPr/>
        </p:nvPicPr>
        <p:blipFill>
          <a:blip r:embed="rId1"/>
          <a:stretch/>
        </p:blipFill>
        <p:spPr>
          <a:xfrm>
            <a:off x="4356000" y="278136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9b3e7"/>
                </a:solidFill>
                <a:latin typeface="Calibri"/>
              </a:rPr>
              <a:t>Ko mo</a:t>
            </a: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gao</a:t>
            </a:r>
            <a:r>
              <a:rPr b="1" i="1" lang="it-IT" sz="2400" spc="-1" strike="noStrike">
                <a:solidFill>
                  <a:srgbClr val="69b3e7"/>
                </a:solidFill>
                <a:latin typeface="Calibri"/>
              </a:rPr>
              <a:t> da se prijavi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24000" y="1314360"/>
            <a:ext cx="8820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i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čka i pravna lica: građani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predstavnici javne uprave, obrazovni krugovi (Univerzitet), developeri, IT kompan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svi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punoletni građani Republike Srbije, nezavisno od radnog statusa)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zainteresovani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za razvoj najboljih idejnih rešenja u cilju unapređenja javnih servisa putem budućih mobilnih aplikacij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f3340"/>
                </a:solidFill>
                <a:latin typeface="Calibri"/>
              </a:rPr>
              <a:t>WeLive u središtu pažnje z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f3340"/>
                </a:solidFill>
                <a:latin typeface="Calibri"/>
              </a:rPr>
              <a:t>građan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Segnaposto data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Odabir ideja i nagra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Segnaposto data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380880" y="1371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a Javni oglas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utem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''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WeLive'' platforme bilo je prijavljeno petnaest idej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nagrađene su sledeće idej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Kultura u gradu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'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oja mesna zajednic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'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'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treet Art Novi Sad''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'’Grad Novi Sad mesečno baci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000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vra u plastic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'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avne česme i bunari na kojima je voda za piće bezbedn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utorima pet najboljih ideja za unapređenje efikasnosti javnih servisa na bazi otvorenih podataka putem mobilnih aplikacija uručene su nagrad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obilni telefoni najnovije generacij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Dalji razvoj idej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rve dve nagrađene idej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Kultura u gradu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'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oja mesna zajednic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'’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redstavnici JKP „Informatika“ i kompanije „DunavNet“ d.o.o. Implementirali su ih u mobilne aplikacije, dok će preostale tri nagrađene ideje biti razvijene u okviru takmičenja za kompjuterske programere i druge, uključene u razvoj softver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grafičke dizajnere, interfejs dizajnere i sl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“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akaton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“)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tokom druge faze pilot projekt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WeLive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do kraj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2017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godin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Segnaposto data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Hakaton - v</a:t>
            </a:r>
            <a:r>
              <a:rPr b="1" i="1" lang="en-US" sz="2400" spc="-1" strike="noStrike">
                <a:solidFill>
                  <a:srgbClr val="69b3e7"/>
                </a:solidFill>
                <a:latin typeface="Calibri"/>
              </a:rPr>
              <a:t>remenski </a:t>
            </a:r>
            <a:r>
              <a:rPr b="1" i="1" lang="sr-Latn-RS" sz="2400" spc="-1" strike="noStrike">
                <a:solidFill>
                  <a:srgbClr val="69b3e7"/>
                </a:solidFill>
                <a:latin typeface="Calibri"/>
              </a:rPr>
              <a:t>okvi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4000" y="1798560"/>
          <a:ext cx="8569080" cy="163044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r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u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avljivanje konku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ak novembra 2017.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lašenje pobed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em decembra 2017.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učenje nag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om 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</a:tbl>
          </a:graphicData>
        </a:graphic>
      </p:graphicFrame>
      <p:sp>
        <p:nvSpPr>
          <p:cNvPr id="382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entury Gothic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274680" y="4221000"/>
            <a:ext cx="8569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 preciznim datumima svi zainteresovani će biti obavešteni putem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EDIJA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gradskog saj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www.novisad.rs/weliv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latforme WeLive-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ttps://dev.welive.eu/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  <a:ea typeface="Arial"/>
              </a:rPr>
              <a:t>DRUŠTVENIH MREŽ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...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  <a:ea typeface="Arial"/>
              </a:rPr>
              <a:t> i možete nas kontakirati putem imejla </a:t>
            </a:r>
            <a:r>
              <a:rPr b="0" lang="sr-Latn-RS" sz="2000" spc="-1" strike="noStrike">
                <a:solidFill>
                  <a:srgbClr val="7030a0"/>
                </a:solidFill>
                <a:latin typeface="Calibri"/>
                <a:ea typeface="Arial"/>
              </a:rPr>
              <a:t>weliv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@novisad.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227640" y="5084640"/>
            <a:ext cx="22734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1 Título"/>
          <p:cNvGrpSpPr/>
          <p:nvPr/>
        </p:nvGrpSpPr>
        <p:grpSpPr>
          <a:xfrm>
            <a:off x="2511360" y="420840"/>
            <a:ext cx="6351480" cy="3584520"/>
            <a:chOff x="2511360" y="420840"/>
            <a:chExt cx="6351480" cy="3584520"/>
          </a:xfrm>
        </p:grpSpPr>
        <p:pic>
          <p:nvPicPr>
            <p:cNvPr id="386" name="1 Título" descr=""/>
            <p:cNvPicPr/>
            <p:nvPr/>
          </p:nvPicPr>
          <p:blipFill>
            <a:blip r:embed="rId1"/>
            <a:stretch/>
          </p:blipFill>
          <p:spPr>
            <a:xfrm>
              <a:off x="2511360" y="420840"/>
              <a:ext cx="635148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590920" y="533520"/>
              <a:ext cx="612144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6000" spc="-1" strike="noStrike">
                  <a:solidFill>
                    <a:srgbClr val="ef3340"/>
                  </a:solidFill>
                  <a:latin typeface="Calibri"/>
                </a:rPr>
                <a:t>Hvala </a:t>
              </a:r>
              <a:br>
                <a:rPr sz="6000"/>
              </a:br>
              <a:r>
                <a:rPr b="0" lang="sr-Latn-RS" sz="6000" spc="-1" strike="noStrike">
                  <a:solidFill>
                    <a:srgbClr val="ef3340"/>
                  </a:solidFill>
                  <a:latin typeface="Calibri"/>
                </a:rPr>
                <a:t>na pažnji!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ef3340"/>
                </a:solidFill>
                <a:latin typeface="Calibri"/>
              </a:rPr>
              <a:t>Partneri na projektu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Date Placeholder 9"/>
          <p:cNvSpPr/>
          <p:nvPr/>
        </p:nvSpPr>
        <p:spPr>
          <a:xfrm>
            <a:off x="285840" y="6627960"/>
            <a:ext cx="1982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0 Imagen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364160" cy="4816440"/>
          </a:xfrm>
          <a:prstGeom prst="rect">
            <a:avLst/>
          </a:prstGeom>
          <a:ln w="0">
            <a:noFill/>
          </a:ln>
        </p:spPr>
      </p:pic>
      <p:sp>
        <p:nvSpPr>
          <p:cNvPr id="250" name="6 Rectángulo redondeado"/>
          <p:cNvSpPr/>
          <p:nvPr/>
        </p:nvSpPr>
        <p:spPr>
          <a:xfrm>
            <a:off x="304920" y="1676520"/>
            <a:ext cx="2260440" cy="1388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2 partner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a iz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različite zem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RS" sz="2400" spc="-1" strike="noStrike">
              <a:solidFill>
                <a:srgbClr val="69b3e7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3 Marcador de fecha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0CBD-1F35-43E0-8B15-8FBAA6A6A4D2}" type="datetime">
              <a:rPr b="0" lang="es-ES" sz="1200" spc="-1" strike="noStrike">
                <a:solidFill>
                  <a:srgbClr val="ef3340"/>
                </a:solidFill>
                <a:latin typeface="Calibri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4 Imagen" descr=""/>
          <p:cNvPicPr/>
          <p:nvPr/>
        </p:nvPicPr>
        <p:blipFill>
          <a:blip r:embed="rId1"/>
          <a:stretch/>
        </p:blipFill>
        <p:spPr>
          <a:xfrm>
            <a:off x="-36360" y="0"/>
            <a:ext cx="1029636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5 Rectángulo redondeado"/>
          <p:cNvSpPr/>
          <p:nvPr/>
        </p:nvSpPr>
        <p:spPr>
          <a:xfrm>
            <a:off x="11160" y="4626000"/>
            <a:ext cx="54752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ffffff"/>
                </a:solidFill>
                <a:latin typeface="Calibri"/>
              </a:rPr>
              <a:t>Zašto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We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6 Rectángulo" descr=""/>
          <p:cNvPicPr/>
          <p:nvPr/>
        </p:nvPicPr>
        <p:blipFill>
          <a:blip r:embed="rId2"/>
          <a:stretch/>
        </p:blipFill>
        <p:spPr>
          <a:xfrm>
            <a:off x="-133200" y="4383000"/>
            <a:ext cx="1296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56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ef3340"/>
                </a:solidFill>
                <a:latin typeface="Calibri"/>
              </a:rPr>
              <a:t>Zašto</a:t>
            </a:r>
            <a:r>
              <a:rPr b="1" i="1" lang="es-ES" sz="3600" spc="-1" strike="noStrike">
                <a:solidFill>
                  <a:srgbClr val="ef3340"/>
                </a:solidFill>
                <a:latin typeface="Calibri"/>
              </a:rPr>
              <a:t> WeLive</a:t>
            </a:r>
            <a:r>
              <a:rPr b="1" i="1" lang="sr-Latn-RS" sz="3600" spc="-1" strike="noStrike">
                <a:solidFill>
                  <a:srgbClr val="ef334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Date Placeholder 9"/>
          <p:cNvSpPr/>
          <p:nvPr/>
        </p:nvSpPr>
        <p:spPr>
          <a:xfrm>
            <a:off x="285840" y="6629400"/>
            <a:ext cx="1982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5 Rectángulo redondeado"/>
          <p:cNvSpPr/>
          <p:nvPr/>
        </p:nvSpPr>
        <p:spPr>
          <a:xfrm>
            <a:off x="2209680" y="1447920"/>
            <a:ext cx="468000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Calibri"/>
              </a:rPr>
              <a:t>Izazov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7 Rectángulo redondeado"/>
          <p:cNvSpPr/>
          <p:nvPr/>
        </p:nvSpPr>
        <p:spPr>
          <a:xfrm>
            <a:off x="533520" y="1828800"/>
            <a:ext cx="8353440" cy="12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Trenutno složene administrativne procedure prilikom upotrebe javnim usluga, dovode do toga da se vrlo malo i retko kor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8 Rectángulo redondeado"/>
          <p:cNvSpPr/>
          <p:nvPr/>
        </p:nvSpPr>
        <p:spPr>
          <a:xfrm>
            <a:off x="1447920" y="3505320"/>
            <a:ext cx="19764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Calibri"/>
              </a:rPr>
              <a:t>Zahtev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9 Rectángulo redondeado"/>
          <p:cNvSpPr/>
          <p:nvPr/>
        </p:nvSpPr>
        <p:spPr>
          <a:xfrm>
            <a:off x="533520" y="3962520"/>
            <a:ext cx="3887640" cy="22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f3340"/>
                </a:solidFill>
                <a:latin typeface="Calibri"/>
                <a:ea typeface="Arial"/>
              </a:rPr>
              <a:t>Potreba da se pređe na </a:t>
            </a:r>
            <a:r>
              <a:rPr b="1" lang="sr-Latn-RS" sz="2400" spc="-1" strike="noStrike">
                <a:solidFill>
                  <a:srgbClr val="f05a41"/>
                </a:solidFill>
                <a:latin typeface="Calibri"/>
                <a:ea typeface="Arial"/>
              </a:rPr>
              <a:t>otvoreni</a:t>
            </a:r>
            <a:r>
              <a:rPr b="1" lang="en-US" sz="2400" spc="-1" strike="noStrike">
                <a:solidFill>
                  <a:srgbClr val="f05a41"/>
                </a:solidFill>
                <a:latin typeface="Calibri"/>
                <a:ea typeface="Arial"/>
              </a:rPr>
              <a:t> model </a:t>
            </a:r>
            <a:r>
              <a:rPr b="1" lang="sr-Latn-RS" sz="2400" spc="-1" strike="noStrike">
                <a:solidFill>
                  <a:srgbClr val="f05a41"/>
                </a:solidFill>
                <a:latin typeface="Calibri"/>
                <a:ea typeface="Arial"/>
              </a:rPr>
              <a:t>dizajna</a:t>
            </a:r>
            <a:r>
              <a:rPr b="1" lang="en-US" sz="2400" spc="-1" strike="noStrike">
                <a:solidFill>
                  <a:srgbClr val="f05a41"/>
                </a:solidFill>
                <a:latin typeface="Calibri"/>
                <a:ea typeface="Arial"/>
              </a:rPr>
              <a:t>,</a:t>
            </a:r>
            <a:r>
              <a:rPr b="1" lang="sr-Latn-RS" sz="2400" spc="-1" strike="noStrike">
                <a:solidFill>
                  <a:srgbClr val="f05a41"/>
                </a:solidFill>
                <a:latin typeface="Calibri"/>
                <a:ea typeface="Arial"/>
              </a:rPr>
              <a:t> pravljenja i isporuke javnih ser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0 Rectángulo redondeado"/>
          <p:cNvSpPr/>
          <p:nvPr/>
        </p:nvSpPr>
        <p:spPr>
          <a:xfrm>
            <a:off x="5943600" y="3505320"/>
            <a:ext cx="19764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Calibri"/>
              </a:rPr>
              <a:t>Zahtev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1 Rectángulo redondeado"/>
          <p:cNvSpPr/>
          <p:nvPr/>
        </p:nvSpPr>
        <p:spPr>
          <a:xfrm>
            <a:off x="4952880" y="3962520"/>
            <a:ext cx="3888000" cy="22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f3340"/>
                </a:solidFill>
                <a:latin typeface="Calibri"/>
                <a:ea typeface="Arial"/>
              </a:rPr>
              <a:t>Podsticanje saradnje</a:t>
            </a:r>
            <a:r>
              <a:rPr b="1" lang="en-US" sz="2400" spc="-1" strike="noStrike">
                <a:solidFill>
                  <a:srgbClr val="f05a41"/>
                </a:solidFill>
                <a:latin typeface="Calibri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05a41"/>
                </a:solidFill>
                <a:latin typeface="Calibri"/>
                <a:ea typeface="Arial"/>
              </a:rPr>
              <a:t>između građana, kompanija i javne administ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2 Flecha abajo"/>
          <p:cNvSpPr/>
          <p:nvPr/>
        </p:nvSpPr>
        <p:spPr>
          <a:xfrm>
            <a:off x="2286000" y="3048120"/>
            <a:ext cx="482760" cy="414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3 Flecha abajo"/>
          <p:cNvSpPr/>
          <p:nvPr/>
        </p:nvSpPr>
        <p:spPr>
          <a:xfrm>
            <a:off x="6705720" y="3048120"/>
            <a:ext cx="482400" cy="414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fecha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081A-C368-4A26-BBC8-B97749A4A3AF}" type="datetime">
              <a:rPr b="0" lang="es-ES" sz="1200" spc="-1" strike="noStrike">
                <a:solidFill>
                  <a:srgbClr val="ef3340"/>
                </a:solidFill>
                <a:latin typeface="Calibri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RS" sz="2400" spc="-1" strike="noStrike">
              <a:solidFill>
                <a:srgbClr val="69b3e7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0" name="7 Imagen" descr=""/>
          <p:cNvPicPr/>
          <p:nvPr/>
        </p:nvPicPr>
        <p:blipFill>
          <a:blip r:embed="rId1"/>
          <a:stretch/>
        </p:blipFill>
        <p:spPr>
          <a:xfrm>
            <a:off x="-11160" y="0"/>
            <a:ext cx="110016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5 Rectángulo redondeado"/>
          <p:cNvSpPr/>
          <p:nvPr/>
        </p:nvSpPr>
        <p:spPr>
          <a:xfrm>
            <a:off x="11160" y="4854600"/>
            <a:ext cx="91328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sr-Latn-RS" sz="3600" spc="-1" strike="noStrike">
                <a:solidFill>
                  <a:srgbClr val="ffffff"/>
                </a:solidFill>
                <a:latin typeface="Calibri"/>
              </a:rPr>
              <a:t>Šta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WeLive pr</a:t>
            </a:r>
            <a:r>
              <a:rPr b="1" lang="sr-Latn-RS" sz="3600" spc="-1" strike="noStrike">
                <a:solidFill>
                  <a:srgbClr val="ffffff"/>
                </a:solidFill>
                <a:latin typeface="Calibri"/>
              </a:rPr>
              <a:t>edlaže i koji su glavni ciljev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6 Rectángulo" descr=""/>
          <p:cNvPicPr/>
          <p:nvPr/>
        </p:nvPicPr>
        <p:blipFill>
          <a:blip r:embed="rId2"/>
          <a:stretch/>
        </p:blipFill>
        <p:spPr>
          <a:xfrm>
            <a:off x="-268200" y="4614840"/>
            <a:ext cx="1298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ef3340"/>
                </a:solidFill>
                <a:latin typeface="Calibri"/>
              </a:rPr>
              <a:t>Šta je</a:t>
            </a:r>
            <a:r>
              <a:rPr b="1" i="1" lang="es-ES" sz="3600" spc="-1" strike="noStrike">
                <a:solidFill>
                  <a:srgbClr val="ef3340"/>
                </a:solidFill>
                <a:latin typeface="Calibri"/>
              </a:rPr>
              <a:t> WeLive</a:t>
            </a:r>
            <a:r>
              <a:rPr b="1" i="1" lang="sr-Latn-RS" sz="3600" spc="-1" strike="noStrike">
                <a:solidFill>
                  <a:srgbClr val="ef3340"/>
                </a:solidFill>
                <a:latin typeface="Calibri"/>
              </a:rPr>
              <a:t> predlaže?</a:t>
            </a:r>
            <a:r>
              <a:rPr b="1" i="1" lang="es-ES" sz="3600" spc="-1" strike="noStrike">
                <a:solidFill>
                  <a:srgbClr val="ef334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Date Placeholder 9"/>
          <p:cNvSpPr/>
          <p:nvPr/>
        </p:nvSpPr>
        <p:spPr>
          <a:xfrm>
            <a:off x="285840" y="6627960"/>
            <a:ext cx="1982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  <a:ea typeface="Arial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6 Rectángulo redondeado"/>
          <p:cNvSpPr/>
          <p:nvPr/>
        </p:nvSpPr>
        <p:spPr>
          <a:xfrm>
            <a:off x="685800" y="1447920"/>
            <a:ext cx="784872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NOVI EKOSISTEM ALATA koji se mogu lako primeniti u različitim javnim administracijama i koj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promoviš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-inova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ciju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ko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kreaciju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personal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izovanih javnih servisa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prek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javno-privatne saradnje i motivisanje svih učesnika da aktivno uzmu učešće u okviru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opštine ili terito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3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512720" cy="1627200"/>
          </a:xfrm>
          <a:prstGeom prst="rect">
            <a:avLst/>
          </a:prstGeom>
          <a:ln w="0">
            <a:noFill/>
          </a:ln>
        </p:spPr>
      </p:pic>
      <p:grpSp>
        <p:nvGrpSpPr>
          <p:cNvPr id="277" name="58 Grupo"/>
          <p:cNvGrpSpPr/>
          <p:nvPr/>
        </p:nvGrpSpPr>
        <p:grpSpPr>
          <a:xfrm>
            <a:off x="3613320" y="4410000"/>
            <a:ext cx="2304720" cy="1208160"/>
            <a:chOff x="3613320" y="4410000"/>
            <a:chExt cx="2304720" cy="1208160"/>
          </a:xfrm>
        </p:grpSpPr>
        <p:pic>
          <p:nvPicPr>
            <p:cNvPr id="278" name="Picture 46" descr=""/>
            <p:cNvPicPr/>
            <p:nvPr/>
          </p:nvPicPr>
          <p:blipFill>
            <a:blip r:embed="rId2"/>
            <a:stretch/>
          </p:blipFill>
          <p:spPr>
            <a:xfrm>
              <a:off x="3675960" y="4529880"/>
              <a:ext cx="592920" cy="5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7" descr=""/>
            <p:cNvPicPr/>
            <p:nvPr/>
          </p:nvPicPr>
          <p:blipFill>
            <a:blip r:embed="rId3"/>
            <a:stretch/>
          </p:blipFill>
          <p:spPr>
            <a:xfrm>
              <a:off x="3675960" y="4529880"/>
              <a:ext cx="592920" cy="5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8" descr=""/>
            <p:cNvPicPr/>
            <p:nvPr/>
          </p:nvPicPr>
          <p:blipFill>
            <a:blip r:embed="rId4"/>
            <a:stretch/>
          </p:blipFill>
          <p:spPr>
            <a:xfrm>
              <a:off x="3613320" y="4410000"/>
              <a:ext cx="230472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9" descr=""/>
            <p:cNvPicPr/>
            <p:nvPr/>
          </p:nvPicPr>
          <p:blipFill>
            <a:blip r:embed="rId5"/>
            <a:stretch/>
          </p:blipFill>
          <p:spPr>
            <a:xfrm>
              <a:off x="3613320" y="4410000"/>
              <a:ext cx="230472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50" descr=""/>
            <p:cNvPicPr/>
            <p:nvPr/>
          </p:nvPicPr>
          <p:blipFill>
            <a:blip r:embed="rId6"/>
            <a:stretch/>
          </p:blipFill>
          <p:spPr>
            <a:xfrm>
              <a:off x="4218480" y="4626000"/>
              <a:ext cx="1084320" cy="7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1" descr=""/>
            <p:cNvPicPr/>
            <p:nvPr/>
          </p:nvPicPr>
          <p:blipFill>
            <a:blip r:embed="rId7"/>
            <a:stretch/>
          </p:blipFill>
          <p:spPr>
            <a:xfrm>
              <a:off x="4218480" y="4626000"/>
              <a:ext cx="1084320" cy="7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2" descr=""/>
            <p:cNvPicPr/>
            <p:nvPr/>
          </p:nvPicPr>
          <p:blipFill>
            <a:blip r:embed="rId8"/>
            <a:stretch/>
          </p:blipFill>
          <p:spPr>
            <a:xfrm>
              <a:off x="3726720" y="4466520"/>
              <a:ext cx="75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3" descr=""/>
            <p:cNvPicPr/>
            <p:nvPr/>
          </p:nvPicPr>
          <p:blipFill>
            <a:blip r:embed="rId9"/>
            <a:stretch/>
          </p:blipFill>
          <p:spPr>
            <a:xfrm>
              <a:off x="3726720" y="4466520"/>
              <a:ext cx="75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4" descr=""/>
            <p:cNvPicPr/>
            <p:nvPr/>
          </p:nvPicPr>
          <p:blipFill>
            <a:blip r:embed="rId10"/>
            <a:stretch/>
          </p:blipFill>
          <p:spPr>
            <a:xfrm>
              <a:off x="5049000" y="4466520"/>
              <a:ext cx="75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5" descr=""/>
            <p:cNvPicPr/>
            <p:nvPr/>
          </p:nvPicPr>
          <p:blipFill>
            <a:blip r:embed="rId11"/>
            <a:stretch/>
          </p:blipFill>
          <p:spPr>
            <a:xfrm>
              <a:off x="5049000" y="4466520"/>
              <a:ext cx="75132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Freeform 56"/>
            <p:cNvSpPr/>
            <p:nvPr/>
          </p:nvSpPr>
          <p:spPr>
            <a:xfrm>
              <a:off x="3964320" y="4672080"/>
              <a:ext cx="267840" cy="2556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solidFill>
              <a:srgbClr val="f7964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7"/>
            <p:cNvSpPr/>
            <p:nvPr/>
          </p:nvSpPr>
          <p:spPr>
            <a:xfrm>
              <a:off x="3952440" y="4711320"/>
              <a:ext cx="292320" cy="5652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631" h="329">
                  <a:moveTo>
                    <a:pt x="1631" y="21"/>
                  </a:moveTo>
                  <a:lnTo>
                    <a:pt x="1627" y="46"/>
                  </a:lnTo>
                  <a:cubicBezTo>
                    <a:pt x="1626" y="52"/>
                    <a:pt x="1624" y="58"/>
                    <a:pt x="1622" y="63"/>
                  </a:cubicBezTo>
                  <a:lnTo>
                    <a:pt x="1611" y="88"/>
                  </a:lnTo>
                  <a:cubicBezTo>
                    <a:pt x="1608" y="93"/>
                    <a:pt x="1606" y="98"/>
                    <a:pt x="1602" y="102"/>
                  </a:cubicBezTo>
                  <a:lnTo>
                    <a:pt x="1584" y="126"/>
                  </a:lnTo>
                  <a:cubicBezTo>
                    <a:pt x="1581" y="130"/>
                    <a:pt x="1579" y="132"/>
                    <a:pt x="1576" y="135"/>
                  </a:cubicBezTo>
                  <a:lnTo>
                    <a:pt x="1551" y="158"/>
                  </a:lnTo>
                  <a:lnTo>
                    <a:pt x="1512" y="186"/>
                  </a:lnTo>
                  <a:lnTo>
                    <a:pt x="1469" y="210"/>
                  </a:lnTo>
                  <a:lnTo>
                    <a:pt x="1421" y="232"/>
                  </a:lnTo>
                  <a:lnTo>
                    <a:pt x="1368" y="251"/>
                  </a:lnTo>
                  <a:lnTo>
                    <a:pt x="1312" y="269"/>
                  </a:lnTo>
                  <a:lnTo>
                    <a:pt x="1255" y="283"/>
                  </a:lnTo>
                  <a:lnTo>
                    <a:pt x="1221" y="152"/>
                  </a:lnTo>
                  <a:lnTo>
                    <a:pt x="1271" y="139"/>
                  </a:lnTo>
                  <a:lnTo>
                    <a:pt x="1321" y="123"/>
                  </a:lnTo>
                  <a:lnTo>
                    <a:pt x="1365" y="108"/>
                  </a:lnTo>
                  <a:lnTo>
                    <a:pt x="1403" y="91"/>
                  </a:lnTo>
                  <a:lnTo>
                    <a:pt x="1435" y="74"/>
                  </a:lnTo>
                  <a:lnTo>
                    <a:pt x="1459" y="58"/>
                  </a:lnTo>
                  <a:lnTo>
                    <a:pt x="1484" y="35"/>
                  </a:lnTo>
                  <a:lnTo>
                    <a:pt x="1476" y="43"/>
                  </a:lnTo>
                  <a:lnTo>
                    <a:pt x="1495" y="19"/>
                  </a:lnTo>
                  <a:lnTo>
                    <a:pt x="1486" y="34"/>
                  </a:lnTo>
                  <a:lnTo>
                    <a:pt x="1497" y="9"/>
                  </a:lnTo>
                  <a:lnTo>
                    <a:pt x="1492" y="25"/>
                  </a:lnTo>
                  <a:lnTo>
                    <a:pt x="1496" y="0"/>
                  </a:lnTo>
                  <a:lnTo>
                    <a:pt x="1631" y="21"/>
                  </a:lnTo>
                  <a:close/>
                  <a:moveTo>
                    <a:pt x="1112" y="309"/>
                  </a:moveTo>
                  <a:lnTo>
                    <a:pt x="1046" y="317"/>
                  </a:lnTo>
                  <a:lnTo>
                    <a:pt x="973" y="324"/>
                  </a:lnTo>
                  <a:lnTo>
                    <a:pt x="818" y="329"/>
                  </a:lnTo>
                  <a:lnTo>
                    <a:pt x="695" y="325"/>
                  </a:lnTo>
                  <a:lnTo>
                    <a:pt x="699" y="189"/>
                  </a:lnTo>
                  <a:lnTo>
                    <a:pt x="813" y="193"/>
                  </a:lnTo>
                  <a:lnTo>
                    <a:pt x="960" y="188"/>
                  </a:lnTo>
                  <a:lnTo>
                    <a:pt x="1030" y="182"/>
                  </a:lnTo>
                  <a:lnTo>
                    <a:pt x="1096" y="174"/>
                  </a:lnTo>
                  <a:lnTo>
                    <a:pt x="1112" y="309"/>
                  </a:lnTo>
                  <a:close/>
                  <a:moveTo>
                    <a:pt x="553" y="314"/>
                  </a:moveTo>
                  <a:lnTo>
                    <a:pt x="516" y="309"/>
                  </a:lnTo>
                  <a:lnTo>
                    <a:pt x="448" y="298"/>
                  </a:lnTo>
                  <a:lnTo>
                    <a:pt x="384" y="285"/>
                  </a:lnTo>
                  <a:lnTo>
                    <a:pt x="323" y="270"/>
                  </a:lnTo>
                  <a:lnTo>
                    <a:pt x="266" y="252"/>
                  </a:lnTo>
                  <a:lnTo>
                    <a:pt x="215" y="234"/>
                  </a:lnTo>
                  <a:lnTo>
                    <a:pt x="167" y="212"/>
                  </a:lnTo>
                  <a:lnTo>
                    <a:pt x="138" y="197"/>
                  </a:lnTo>
                  <a:lnTo>
                    <a:pt x="204" y="77"/>
                  </a:lnTo>
                  <a:lnTo>
                    <a:pt x="224" y="89"/>
                  </a:lnTo>
                  <a:lnTo>
                    <a:pt x="262" y="106"/>
                  </a:lnTo>
                  <a:lnTo>
                    <a:pt x="307" y="123"/>
                  </a:lnTo>
                  <a:lnTo>
                    <a:pt x="356" y="138"/>
                  </a:lnTo>
                  <a:lnTo>
                    <a:pt x="411" y="152"/>
                  </a:lnTo>
                  <a:lnTo>
                    <a:pt x="470" y="164"/>
                  </a:lnTo>
                  <a:lnTo>
                    <a:pt x="533" y="174"/>
                  </a:lnTo>
                  <a:lnTo>
                    <a:pt x="570" y="179"/>
                  </a:lnTo>
                  <a:lnTo>
                    <a:pt x="553" y="314"/>
                  </a:lnTo>
                  <a:close/>
                  <a:moveTo>
                    <a:pt x="13" y="72"/>
                  </a:moveTo>
                  <a:lnTo>
                    <a:pt x="9" y="63"/>
                  </a:lnTo>
                  <a:cubicBezTo>
                    <a:pt x="7" y="58"/>
                    <a:pt x="5" y="52"/>
                    <a:pt x="4" y="46"/>
                  </a:cubicBezTo>
                  <a:lnTo>
                    <a:pt x="0" y="21"/>
                  </a:lnTo>
                  <a:lnTo>
                    <a:pt x="135" y="0"/>
                  </a:lnTo>
                  <a:lnTo>
                    <a:pt x="139" y="25"/>
                  </a:lnTo>
                  <a:lnTo>
                    <a:pt x="134" y="9"/>
                  </a:lnTo>
                  <a:lnTo>
                    <a:pt x="137" y="17"/>
                  </a:lnTo>
                  <a:lnTo>
                    <a:pt x="13" y="72"/>
                  </a:lnTo>
                  <a:close/>
                </a:path>
              </a:pathLst>
            </a:custGeom>
            <a:solidFill>
              <a:srgbClr val="b66d31"/>
            </a:solidFill>
            <a:ln w="0">
              <a:solidFill>
                <a:srgbClr val="b66d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8"/>
            <p:cNvSpPr/>
            <p:nvPr/>
          </p:nvSpPr>
          <p:spPr>
            <a:xfrm>
              <a:off x="3952440" y="4659120"/>
              <a:ext cx="292320" cy="27972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1632" h="1640">
                  <a:moveTo>
                    <a:pt x="0" y="1322"/>
                  </a:moveTo>
                  <a:lnTo>
                    <a:pt x="0" y="914"/>
                  </a:lnTo>
                  <a:lnTo>
                    <a:pt x="136" y="914"/>
                  </a:lnTo>
                  <a:lnTo>
                    <a:pt x="136" y="1322"/>
                  </a:lnTo>
                  <a:lnTo>
                    <a:pt x="0" y="1322"/>
                  </a:lnTo>
                  <a:close/>
                  <a:moveTo>
                    <a:pt x="0" y="778"/>
                  </a:moveTo>
                  <a:lnTo>
                    <a:pt x="0" y="370"/>
                  </a:lnTo>
                  <a:lnTo>
                    <a:pt x="136" y="370"/>
                  </a:lnTo>
                  <a:lnTo>
                    <a:pt x="136" y="778"/>
                  </a:lnTo>
                  <a:lnTo>
                    <a:pt x="0" y="778"/>
                  </a:lnTo>
                  <a:close/>
                  <a:moveTo>
                    <a:pt x="58" y="193"/>
                  </a:moveTo>
                  <a:lnTo>
                    <a:pt x="82" y="171"/>
                  </a:lnTo>
                  <a:lnTo>
                    <a:pt x="120" y="144"/>
                  </a:lnTo>
                  <a:lnTo>
                    <a:pt x="163" y="120"/>
                  </a:lnTo>
                  <a:lnTo>
                    <a:pt x="212" y="98"/>
                  </a:lnTo>
                  <a:lnTo>
                    <a:pt x="264" y="78"/>
                  </a:lnTo>
                  <a:lnTo>
                    <a:pt x="321" y="61"/>
                  </a:lnTo>
                  <a:lnTo>
                    <a:pt x="382" y="45"/>
                  </a:lnTo>
                  <a:lnTo>
                    <a:pt x="446" y="32"/>
                  </a:lnTo>
                  <a:lnTo>
                    <a:pt x="467" y="29"/>
                  </a:lnTo>
                  <a:lnTo>
                    <a:pt x="489" y="163"/>
                  </a:lnTo>
                  <a:lnTo>
                    <a:pt x="474" y="166"/>
                  </a:lnTo>
                  <a:lnTo>
                    <a:pt x="415" y="177"/>
                  </a:lnTo>
                  <a:lnTo>
                    <a:pt x="360" y="191"/>
                  </a:lnTo>
                  <a:lnTo>
                    <a:pt x="311" y="206"/>
                  </a:lnTo>
                  <a:lnTo>
                    <a:pt x="267" y="222"/>
                  </a:lnTo>
                  <a:lnTo>
                    <a:pt x="230" y="238"/>
                  </a:lnTo>
                  <a:lnTo>
                    <a:pt x="198" y="256"/>
                  </a:lnTo>
                  <a:lnTo>
                    <a:pt x="173" y="272"/>
                  </a:lnTo>
                  <a:lnTo>
                    <a:pt x="149" y="294"/>
                  </a:lnTo>
                  <a:lnTo>
                    <a:pt x="58" y="193"/>
                  </a:lnTo>
                  <a:close/>
                  <a:moveTo>
                    <a:pt x="607" y="11"/>
                  </a:moveTo>
                  <a:lnTo>
                    <a:pt x="660" y="6"/>
                  </a:lnTo>
                  <a:lnTo>
                    <a:pt x="814" y="0"/>
                  </a:lnTo>
                  <a:lnTo>
                    <a:pt x="970" y="5"/>
                  </a:lnTo>
                  <a:lnTo>
                    <a:pt x="1026" y="11"/>
                  </a:lnTo>
                  <a:lnTo>
                    <a:pt x="1014" y="146"/>
                  </a:lnTo>
                  <a:lnTo>
                    <a:pt x="965" y="141"/>
                  </a:lnTo>
                  <a:lnTo>
                    <a:pt x="819" y="136"/>
                  </a:lnTo>
                  <a:lnTo>
                    <a:pt x="672" y="141"/>
                  </a:lnTo>
                  <a:lnTo>
                    <a:pt x="619" y="146"/>
                  </a:lnTo>
                  <a:lnTo>
                    <a:pt x="607" y="11"/>
                  </a:lnTo>
                  <a:close/>
                  <a:moveTo>
                    <a:pt x="1166" y="29"/>
                  </a:moveTo>
                  <a:lnTo>
                    <a:pt x="1184" y="32"/>
                  </a:lnTo>
                  <a:lnTo>
                    <a:pt x="1248" y="45"/>
                  </a:lnTo>
                  <a:lnTo>
                    <a:pt x="1309" y="60"/>
                  </a:lnTo>
                  <a:lnTo>
                    <a:pt x="1365" y="77"/>
                  </a:lnTo>
                  <a:lnTo>
                    <a:pt x="1418" y="96"/>
                  </a:lnTo>
                  <a:lnTo>
                    <a:pt x="1464" y="117"/>
                  </a:lnTo>
                  <a:lnTo>
                    <a:pt x="1508" y="141"/>
                  </a:lnTo>
                  <a:lnTo>
                    <a:pt x="1545" y="166"/>
                  </a:lnTo>
                  <a:lnTo>
                    <a:pt x="1575" y="193"/>
                  </a:lnTo>
                  <a:lnTo>
                    <a:pt x="1483" y="293"/>
                  </a:lnTo>
                  <a:lnTo>
                    <a:pt x="1467" y="278"/>
                  </a:lnTo>
                  <a:lnTo>
                    <a:pt x="1441" y="259"/>
                  </a:lnTo>
                  <a:lnTo>
                    <a:pt x="1409" y="241"/>
                  </a:lnTo>
                  <a:lnTo>
                    <a:pt x="1370" y="224"/>
                  </a:lnTo>
                  <a:lnTo>
                    <a:pt x="1326" y="207"/>
                  </a:lnTo>
                  <a:lnTo>
                    <a:pt x="1276" y="192"/>
                  </a:lnTo>
                  <a:lnTo>
                    <a:pt x="1222" y="178"/>
                  </a:lnTo>
                  <a:lnTo>
                    <a:pt x="1162" y="166"/>
                  </a:lnTo>
                  <a:lnTo>
                    <a:pt x="1144" y="163"/>
                  </a:lnTo>
                  <a:lnTo>
                    <a:pt x="1166" y="29"/>
                  </a:lnTo>
                  <a:close/>
                  <a:moveTo>
                    <a:pt x="1632" y="370"/>
                  </a:moveTo>
                  <a:lnTo>
                    <a:pt x="1632" y="778"/>
                  </a:lnTo>
                  <a:lnTo>
                    <a:pt x="1496" y="778"/>
                  </a:lnTo>
                  <a:lnTo>
                    <a:pt x="1496" y="370"/>
                  </a:lnTo>
                  <a:lnTo>
                    <a:pt x="1632" y="370"/>
                  </a:lnTo>
                  <a:close/>
                  <a:moveTo>
                    <a:pt x="1632" y="914"/>
                  </a:moveTo>
                  <a:lnTo>
                    <a:pt x="1632" y="1322"/>
                  </a:lnTo>
                  <a:lnTo>
                    <a:pt x="1496" y="1322"/>
                  </a:lnTo>
                  <a:lnTo>
                    <a:pt x="1496" y="914"/>
                  </a:lnTo>
                  <a:lnTo>
                    <a:pt x="1632" y="914"/>
                  </a:lnTo>
                  <a:close/>
                  <a:moveTo>
                    <a:pt x="1530" y="1486"/>
                  </a:moveTo>
                  <a:lnTo>
                    <a:pt x="1513" y="1497"/>
                  </a:lnTo>
                  <a:lnTo>
                    <a:pt x="1470" y="1522"/>
                  </a:lnTo>
                  <a:lnTo>
                    <a:pt x="1422" y="1543"/>
                  </a:lnTo>
                  <a:lnTo>
                    <a:pt x="1369" y="1563"/>
                  </a:lnTo>
                  <a:lnTo>
                    <a:pt x="1313" y="1580"/>
                  </a:lnTo>
                  <a:lnTo>
                    <a:pt x="1252" y="1596"/>
                  </a:lnTo>
                  <a:lnTo>
                    <a:pt x="1186" y="1609"/>
                  </a:lnTo>
                  <a:lnTo>
                    <a:pt x="1119" y="1620"/>
                  </a:lnTo>
                  <a:lnTo>
                    <a:pt x="1113" y="1621"/>
                  </a:lnTo>
                  <a:lnTo>
                    <a:pt x="1097" y="1486"/>
                  </a:lnTo>
                  <a:lnTo>
                    <a:pt x="1160" y="1476"/>
                  </a:lnTo>
                  <a:lnTo>
                    <a:pt x="1218" y="1464"/>
                  </a:lnTo>
                  <a:lnTo>
                    <a:pt x="1272" y="1451"/>
                  </a:lnTo>
                  <a:lnTo>
                    <a:pt x="1322" y="1435"/>
                  </a:lnTo>
                  <a:lnTo>
                    <a:pt x="1366" y="1420"/>
                  </a:lnTo>
                  <a:lnTo>
                    <a:pt x="1404" y="1402"/>
                  </a:lnTo>
                  <a:lnTo>
                    <a:pt x="1436" y="1386"/>
                  </a:lnTo>
                  <a:lnTo>
                    <a:pt x="1452" y="1374"/>
                  </a:lnTo>
                  <a:lnTo>
                    <a:pt x="1530" y="1486"/>
                  </a:lnTo>
                  <a:close/>
                  <a:moveTo>
                    <a:pt x="976" y="1635"/>
                  </a:moveTo>
                  <a:lnTo>
                    <a:pt x="974" y="1635"/>
                  </a:lnTo>
                  <a:lnTo>
                    <a:pt x="819" y="1640"/>
                  </a:lnTo>
                  <a:lnTo>
                    <a:pt x="664" y="1635"/>
                  </a:lnTo>
                  <a:lnTo>
                    <a:pt x="588" y="1629"/>
                  </a:lnTo>
                  <a:lnTo>
                    <a:pt x="555" y="1625"/>
                  </a:lnTo>
                  <a:lnTo>
                    <a:pt x="571" y="1490"/>
                  </a:lnTo>
                  <a:lnTo>
                    <a:pt x="600" y="1494"/>
                  </a:lnTo>
                  <a:lnTo>
                    <a:pt x="668" y="1499"/>
                  </a:lnTo>
                  <a:lnTo>
                    <a:pt x="814" y="1504"/>
                  </a:lnTo>
                  <a:lnTo>
                    <a:pt x="961" y="1500"/>
                  </a:lnTo>
                  <a:lnTo>
                    <a:pt x="964" y="1499"/>
                  </a:lnTo>
                  <a:lnTo>
                    <a:pt x="976" y="1635"/>
                  </a:lnTo>
                  <a:close/>
                  <a:moveTo>
                    <a:pt x="415" y="1603"/>
                  </a:moveTo>
                  <a:lnTo>
                    <a:pt x="385" y="1597"/>
                  </a:lnTo>
                  <a:lnTo>
                    <a:pt x="324" y="1581"/>
                  </a:lnTo>
                  <a:lnTo>
                    <a:pt x="267" y="1564"/>
                  </a:lnTo>
                  <a:lnTo>
                    <a:pt x="216" y="1545"/>
                  </a:lnTo>
                  <a:lnTo>
                    <a:pt x="168" y="1524"/>
                  </a:lnTo>
                  <a:lnTo>
                    <a:pt x="126" y="1501"/>
                  </a:lnTo>
                  <a:lnTo>
                    <a:pt x="89" y="1475"/>
                  </a:lnTo>
                  <a:lnTo>
                    <a:pt x="56" y="1447"/>
                  </a:lnTo>
                  <a:cubicBezTo>
                    <a:pt x="53" y="1444"/>
                    <a:pt x="51" y="1441"/>
                    <a:pt x="48" y="1438"/>
                  </a:cubicBezTo>
                  <a:lnTo>
                    <a:pt x="30" y="1414"/>
                  </a:lnTo>
                  <a:cubicBezTo>
                    <a:pt x="26" y="1410"/>
                    <a:pt x="23" y="1405"/>
                    <a:pt x="21" y="1400"/>
                  </a:cubicBezTo>
                  <a:lnTo>
                    <a:pt x="14" y="1384"/>
                  </a:lnTo>
                  <a:lnTo>
                    <a:pt x="139" y="1329"/>
                  </a:lnTo>
                  <a:lnTo>
                    <a:pt x="146" y="1345"/>
                  </a:lnTo>
                  <a:lnTo>
                    <a:pt x="137" y="1331"/>
                  </a:lnTo>
                  <a:lnTo>
                    <a:pt x="156" y="1355"/>
                  </a:lnTo>
                  <a:lnTo>
                    <a:pt x="148" y="1346"/>
                  </a:lnTo>
                  <a:lnTo>
                    <a:pt x="166" y="1364"/>
                  </a:lnTo>
                  <a:lnTo>
                    <a:pt x="192" y="1382"/>
                  </a:lnTo>
                  <a:lnTo>
                    <a:pt x="225" y="1400"/>
                  </a:lnTo>
                  <a:lnTo>
                    <a:pt x="263" y="1418"/>
                  </a:lnTo>
                  <a:lnTo>
                    <a:pt x="308" y="1434"/>
                  </a:lnTo>
                  <a:lnTo>
                    <a:pt x="357" y="1449"/>
                  </a:lnTo>
                  <a:lnTo>
                    <a:pt x="412" y="1463"/>
                  </a:lnTo>
                  <a:lnTo>
                    <a:pt x="442" y="1469"/>
                  </a:lnTo>
                  <a:lnTo>
                    <a:pt x="415" y="1603"/>
                  </a:lnTo>
                  <a:close/>
                </a:path>
              </a:pathLst>
            </a:custGeom>
            <a:solidFill>
              <a:srgbClr val="b66d31"/>
            </a:solidFill>
            <a:ln w="0">
              <a:solidFill>
                <a:srgbClr val="b66d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9"/>
            <p:cNvSpPr/>
            <p:nvPr/>
          </p:nvSpPr>
          <p:spPr>
            <a:xfrm>
              <a:off x="3964320" y="5028120"/>
              <a:ext cx="267840" cy="2577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solidFill>
              <a:srgbClr val="948a5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0"/>
            <p:cNvSpPr/>
            <p:nvPr/>
          </p:nvSpPr>
          <p:spPr>
            <a:xfrm>
              <a:off x="3964320" y="5072040"/>
              <a:ext cx="267840" cy="414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32" h="19">
                  <a:moveTo>
                    <a:pt x="132" y="0"/>
                  </a:moveTo>
                  <a:cubicBezTo>
                    <a:pt x="132" y="11"/>
                    <a:pt x="103" y="19"/>
                    <a:pt x="66" y="19"/>
                  </a:cubicBezTo>
                  <a:cubicBezTo>
                    <a:pt x="29" y="19"/>
                    <a:pt x="0" y="11"/>
                    <a:pt x="0" y="0"/>
                  </a:cubicBezTo>
                </a:path>
              </a:pathLst>
            </a:custGeom>
            <a:noFill/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1"/>
            <p:cNvSpPr/>
            <p:nvPr/>
          </p:nvSpPr>
          <p:spPr>
            <a:xfrm>
              <a:off x="3964320" y="5028120"/>
              <a:ext cx="267840" cy="2577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noFill/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2"/>
            <p:cNvSpPr/>
            <p:nvPr/>
          </p:nvSpPr>
          <p:spPr>
            <a:xfrm>
              <a:off x="4626720" y="4853520"/>
              <a:ext cx="270000" cy="255600"/>
            </a:xfrm>
            <a:custGeom>
              <a:avLst/>
              <a:gdLst>
                <a:gd name="textAreaLeft" fmla="*/ 0 w 270000"/>
                <a:gd name="textAreaRight" fmla="*/ 270000 w 2700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3"/>
            <p:cNvSpPr/>
            <p:nvPr/>
          </p:nvSpPr>
          <p:spPr>
            <a:xfrm>
              <a:off x="4626720" y="4894920"/>
              <a:ext cx="270000" cy="435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33" h="20">
                  <a:moveTo>
                    <a:pt x="133" y="0"/>
                  </a:moveTo>
                  <a:cubicBezTo>
                    <a:pt x="133" y="11"/>
                    <a:pt x="103" y="20"/>
                    <a:pt x="66" y="20"/>
                  </a:cubicBezTo>
                  <a:cubicBezTo>
                    <a:pt x="30" y="20"/>
                    <a:pt x="0" y="11"/>
                    <a:pt x="0" y="0"/>
                  </a:cubicBezTo>
                </a:path>
              </a:pathLst>
            </a:custGeom>
            <a:noFill/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4"/>
            <p:cNvSpPr/>
            <p:nvPr/>
          </p:nvSpPr>
          <p:spPr>
            <a:xfrm>
              <a:off x="4626720" y="4853520"/>
              <a:ext cx="270000" cy="255600"/>
            </a:xfrm>
            <a:custGeom>
              <a:avLst/>
              <a:gdLst>
                <a:gd name="textAreaLeft" fmla="*/ 0 w 270000"/>
                <a:gd name="textAreaRight" fmla="*/ 270000 w 2700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noFill/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5"/>
            <p:cNvSpPr/>
            <p:nvPr/>
          </p:nvSpPr>
          <p:spPr>
            <a:xfrm>
              <a:off x="5292720" y="4847040"/>
              <a:ext cx="270000" cy="255600"/>
            </a:xfrm>
            <a:custGeom>
              <a:avLst/>
              <a:gdLst>
                <a:gd name="textAreaLeft" fmla="*/ 0 w 270000"/>
                <a:gd name="textAreaRight" fmla="*/ 270000 w 2700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solidFill>
              <a:srgbClr val="77933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6"/>
            <p:cNvSpPr/>
            <p:nvPr/>
          </p:nvSpPr>
          <p:spPr>
            <a:xfrm>
              <a:off x="5292720" y="4888440"/>
              <a:ext cx="270000" cy="435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33" h="20">
                  <a:moveTo>
                    <a:pt x="133" y="0"/>
                  </a:moveTo>
                  <a:cubicBezTo>
                    <a:pt x="133" y="11"/>
                    <a:pt x="103" y="20"/>
                    <a:pt x="67" y="20"/>
                  </a:cubicBezTo>
                  <a:cubicBezTo>
                    <a:pt x="30" y="20"/>
                    <a:pt x="0" y="11"/>
                    <a:pt x="0" y="0"/>
                  </a:cubicBezTo>
                </a:path>
              </a:pathLst>
            </a:custGeom>
            <a:noFill/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67"/>
            <p:cNvSpPr/>
            <p:nvPr/>
          </p:nvSpPr>
          <p:spPr>
            <a:xfrm>
              <a:off x="5292720" y="4847040"/>
              <a:ext cx="270000" cy="255600"/>
            </a:xfrm>
            <a:custGeom>
              <a:avLst/>
              <a:gdLst>
                <a:gd name="textAreaLeft" fmla="*/ 0 w 270000"/>
                <a:gd name="textAreaRight" fmla="*/ 270000 w 2700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96" h="1504">
                  <a:moveTo>
                    <a:pt x="0" y="251"/>
                  </a:moveTo>
                  <a:cubicBezTo>
                    <a:pt x="0" y="113"/>
                    <a:pt x="335" y="0"/>
                    <a:pt x="748" y="0"/>
                  </a:cubicBezTo>
                  <a:cubicBezTo>
                    <a:pt x="1162" y="0"/>
                    <a:pt x="1496" y="113"/>
                    <a:pt x="1496" y="251"/>
                  </a:cubicBezTo>
                  <a:lnTo>
                    <a:pt x="1496" y="1254"/>
                  </a:lnTo>
                  <a:cubicBezTo>
                    <a:pt x="1496" y="1392"/>
                    <a:pt x="1162" y="1504"/>
                    <a:pt x="748" y="1504"/>
                  </a:cubicBezTo>
                  <a:cubicBezTo>
                    <a:pt x="335" y="1504"/>
                    <a:pt x="0" y="1392"/>
                    <a:pt x="0" y="1254"/>
                  </a:cubicBezTo>
                  <a:lnTo>
                    <a:pt x="0" y="251"/>
                  </a:lnTo>
                  <a:close/>
                </a:path>
              </a:pathLst>
            </a:custGeom>
            <a:noFill/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2 Imagen" descr=""/>
          <p:cNvPicPr/>
          <p:nvPr/>
        </p:nvPicPr>
        <p:blipFill>
          <a:blip r:embed="rId12"/>
          <a:stretch/>
        </p:blipFill>
        <p:spPr>
          <a:xfrm>
            <a:off x="1116000" y="4149720"/>
            <a:ext cx="1646280" cy="1717560"/>
          </a:xfrm>
          <a:prstGeom prst="rect">
            <a:avLst/>
          </a:prstGeom>
          <a:ln w="0">
            <a:noFill/>
          </a:ln>
        </p:spPr>
      </p:pic>
      <p:sp>
        <p:nvSpPr>
          <p:cNvPr id="301" name="81 Rectángulo redondeado"/>
          <p:cNvSpPr/>
          <p:nvPr/>
        </p:nvSpPr>
        <p:spPr>
          <a:xfrm>
            <a:off x="1116000" y="5913360"/>
            <a:ext cx="164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pe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82 Rectángulo redondeado"/>
          <p:cNvSpPr/>
          <p:nvPr/>
        </p:nvSpPr>
        <p:spPr>
          <a:xfrm>
            <a:off x="3973680" y="5913360"/>
            <a:ext cx="16459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pe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83 Rectángulo redondeado"/>
          <p:cNvSpPr/>
          <p:nvPr/>
        </p:nvSpPr>
        <p:spPr>
          <a:xfrm>
            <a:off x="6300720" y="5913360"/>
            <a:ext cx="21589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pen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ef3340"/>
                </a:solidFill>
                <a:latin typeface="Calibri"/>
              </a:rPr>
              <a:t>Glavni ciljevi projekt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ruštveni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romovisanje privrednog rasta i otvaranje novih radnih mesta pomoću vertikalnih aplikacija i grupa podatak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ovećanje transparentnosti i poverenja u javnu uprav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ef3340"/>
                </a:solidFill>
                <a:latin typeface="Calibri"/>
              </a:rPr>
              <a:t>Glavni ciljevi projekt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23640" y="1314360"/>
            <a:ext cx="8569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Tehnički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Jednostavno korišćenje otvorenih podataka iz javnih uslug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Demokratizacija kreiranja javnih usluga (aplikacij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ersonalizacija i analiza javnih uslug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324000" y="6448320"/>
            <a:ext cx="1017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ef3340"/>
                </a:solidFill>
                <a:latin typeface="Calibri"/>
              </a:rPr>
              <a:t>09.10.20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8:54:24Z</dcterms:created>
  <dc:creator>dd</dc:creator>
  <dc:description/>
  <dc:language>en-US</dc:language>
  <cp:lastModifiedBy>Korisnik</cp:lastModifiedBy>
  <dcterms:modified xsi:type="dcterms:W3CDTF">2017-10-09T17:50:59Z</dcterms:modified>
  <cp:revision>208</cp:revision>
  <dc:subject/>
  <dc:title>Slide 1</dc:title>
</cp:coreProperties>
</file>